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3DCD-067A-4241-909B-E4EF0B4B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159-A3FE-4548-B028-382CF7E1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AB61-B709-46A5-B56A-CAFE44BA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6F75-DEE9-484D-A10C-E28D1E40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0AC7-B607-42F1-94C6-DB7A2EF3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BF0F-6284-4548-9977-7CD55EF6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F282-1040-493D-B69C-0C59D583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CE31-2694-4D8E-A50B-E49DDDF8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A33B-35C9-481C-A65B-BF9B5D85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C2F2-BB78-43CF-A572-4BCFA161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2F77-C90D-40A3-8E2B-4A42E9C1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D214-CD41-4027-8CB2-779462A4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A3F6-7789-48BA-BB2E-EF8530E8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8727-5837-4E80-AB30-CF4F5BCA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7F70-F20A-4160-886E-5EEF0938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E172-4463-4D21-B8E0-915CC501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FE29-83CA-4197-8110-CA38B2FA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6E49-B0F4-4635-A976-5BC781B3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D6A2-E024-4EFA-B004-FFCD4196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8654-74FC-49C3-908E-981596D0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8608-947F-4E2A-A003-30B27778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FDCC-1FCB-4263-8F22-A14F680D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1D8F-D207-44C8-91D5-A44456ED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AA60-7054-42AA-B9B0-4E6D2666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169F-5037-4E14-B224-DD426EDAF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17C8-9569-4BA0-ACCA-B208CC1CD4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English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. 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A Li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r Ralph Waldo Em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r/Naturalist Henry David Thore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minist writer Margaret Fu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or Bronson Alco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9" descr="MPj04024600000[1]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9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rom 1840-1855, literature in America experienced a rebirth called the New England Renaissance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rough their poetry, short stories, novels, and other works, writers during this period established a clear American voice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 longer did they see their work as less influential than that of European author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anscendentalism was a part of this “flowering” of American literature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alph Waldo Emerson and Henry David Thoreau were important voices in this philosophical movement that sought to have individuals “transcend” to a higher spiritual level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 achieve this goal, the individual had to seek spiritual, not material, greatness and the essential truths of life through intui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merson was the philosopher and teacher. Thoreau was the student and the practition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Answer the following in your journals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are you affected by nature? Do you find comfort in it? Do you reflect the moods of n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role of nature in your lif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meant by an individual’s spiritual side? How do you define it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re a connection between the individual’s spirit and nature? If so, what is that connection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does it mean to know something intuitively? For example, has a parent or a sibling ever known something was wrong with you without having talked with or seen you? What do we mean when we say “I just know it”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do you demonstrate that you are an individual? Do you think independently of others or do you follow the crowd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cendentalis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Emerson, pg. 1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questions on pg. 1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genda-Freshm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a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e-wr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a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.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responses i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sister wants to become an industrial engineer, shes gonna write to the institute of industrial engineers in norcross georgia for more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graph:sentence::________: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ste:Bland::color: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ranscendentalis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always two parties: the establishment and the movemen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6" descr="1emers1"/>
          <p:cNvPicPr/>
          <p:nvPr/>
        </p:nvPicPr>
        <p:blipFill>
          <a:blip r:embed="rId1"/>
          <a:stretch/>
        </p:blipFill>
        <p:spPr>
          <a:xfrm>
            <a:off x="380880" y="304920"/>
            <a:ext cx="1444680" cy="2057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1thor1"/>
          <p:cNvPicPr/>
          <p:nvPr/>
        </p:nvPicPr>
        <p:blipFill>
          <a:blip r:embed="rId2"/>
          <a:stretch/>
        </p:blipFill>
        <p:spPr>
          <a:xfrm>
            <a:off x="7272360" y="345960"/>
            <a:ext cx="14446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anscendental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hilosophical movement that began around 18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stressed individualism, intuition, nature, and self-reli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hilosophy which professes the essential unity of all creation and the innate goodness of man”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ritannica Macromed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hilosophy 101: The Three Big Beliefs of the Transcendentalis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 connection or “correspondence” between the universe and the individual sou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ure is the gospel of the new fa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4" descr="MPj04004380000[1]"/>
          <p:cNvPicPr/>
          <p:nvPr/>
        </p:nvPicPr>
        <p:blipFill>
          <a:blip r:embed="rId1"/>
          <a:stretch/>
        </p:blipFill>
        <p:spPr>
          <a:xfrm>
            <a:off x="4716360" y="25621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cond Belie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contemplating objects in nature, people can transcend the world and discover union with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ver-Sou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unites us 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a transparent eyeball; I am nothing; I see al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urrents of the Universal Being circulate through me, I am part or parcel of Go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4" descr="MCHM00445_0000[1]"/>
          <p:cNvPicPr/>
          <p:nvPr/>
        </p:nvPicPr>
        <p:blipFill>
          <a:blip r:embed="rId1"/>
          <a:stretch/>
        </p:blipFill>
        <p:spPr>
          <a:xfrm>
            <a:off x="7575480" y="0"/>
            <a:ext cx="1568520" cy="1254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MCHM00445_0000[1]"/>
          <p:cNvPicPr/>
          <p:nvPr/>
        </p:nvPicPr>
        <p:blipFill>
          <a:blip r:embed="rId2"/>
          <a:stretch/>
        </p:blipFill>
        <p:spPr>
          <a:xfrm>
            <a:off x="0" y="0"/>
            <a:ext cx="156852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ird Belie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 your own intuition and own beliefs, however divergent from the social norm they may 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all people are inherently good, the individual’s intuitive response to any given situation will be the right thing to 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7" descr="MPj03154430000[1]"/>
          <p:cNvPicPr/>
          <p:nvPr/>
        </p:nvPicPr>
        <p:blipFill>
          <a:blip r:embed="rId1"/>
          <a:stretch/>
        </p:blipFill>
        <p:spPr>
          <a:xfrm>
            <a:off x="4838760" y="2622600"/>
            <a:ext cx="365760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1:38:11Z</dcterms:created>
  <dc:creator>cchapman</dc:creator>
  <dc:description/>
  <dc:language>en-US</dc:language>
  <cp:lastModifiedBy>Angie McCall</cp:lastModifiedBy>
  <dcterms:modified xsi:type="dcterms:W3CDTF">2014-01-14T22:08:32Z</dcterms:modified>
  <cp:revision>7</cp:revision>
  <dc:subject/>
  <dc:title>Transcendentalism</dc:title>
</cp:coreProperties>
</file>